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464-3422-4389-9457-4EB77DFB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19D-8552-4601-9EBB-1E818803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270-0C85-479B-BF7B-0C6AF84C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9B8-524D-42B1-B4A5-8AF61844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47-51FC-4341-88D0-74C19AC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042-0481-4967-8C3E-9EF1B5A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F79-8956-4FA5-8315-DF681EB5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D19-6968-45B1-B028-6790E02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DF5-2419-45DF-80DB-8A51701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E46-45BB-457F-B2A3-092F095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3CE-483B-4D90-A6DF-538B835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CF0-C106-4647-A8E8-DE65B9B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184-34AE-40C5-9B1A-2EDB132A5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8892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分数、百分数的认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"/>
          <p:cNvSpPr/>
          <p:nvPr/>
        </p:nvSpPr>
        <p:spPr>
          <a:xfrm>
            <a:off x="1670760" y="112392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5%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入合适的括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179280" y="1949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六年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今天全部到校，出勤率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6915600" y="1965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179280" y="2717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几年小军的身高平均每年大约增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6430680" y="2720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179280" y="35812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江比黄河长，长江的长度大约相当于黄河的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7501680" y="360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9"/>
          <p:cNvSpPr/>
          <p:nvPr/>
        </p:nvSpPr>
        <p:spPr>
          <a:xfrm>
            <a:off x="179280" y="44467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件商品比原价便宜很多，降价的幅度达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7012800" y="446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11" descr="表格.png"/>
          <p:cNvPicPr/>
          <p:nvPr/>
        </p:nvPicPr>
        <p:blipFill>
          <a:blip r:embed="rId1"/>
          <a:stretch/>
        </p:blipFill>
        <p:spPr>
          <a:xfrm>
            <a:off x="611280" y="1797120"/>
            <a:ext cx="7907400" cy="3022560"/>
          </a:xfrm>
          <a:prstGeom prst="rect">
            <a:avLst/>
          </a:prstGeom>
          <a:ln w="0">
            <a:noFill/>
          </a:ln>
        </p:spPr>
      </p:pic>
      <p:sp>
        <p:nvSpPr>
          <p:cNvPr id="238" name="矩形 2"/>
          <p:cNvSpPr/>
          <p:nvPr/>
        </p:nvSpPr>
        <p:spPr>
          <a:xfrm>
            <a:off x="362520" y="112392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5063400" y="405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3180600" y="1928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6955560" y="405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"/>
          <p:cNvSpPr/>
          <p:nvPr/>
        </p:nvSpPr>
        <p:spPr>
          <a:xfrm>
            <a:off x="3137760" y="405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1224000" y="2990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3"/>
          <p:cNvSpPr/>
          <p:nvPr/>
        </p:nvSpPr>
        <p:spPr>
          <a:xfrm>
            <a:off x="1214280" y="1917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4"/>
          <p:cNvSpPr/>
          <p:nvPr/>
        </p:nvSpPr>
        <p:spPr>
          <a:xfrm>
            <a:off x="1180080" y="4029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对象 280587"/>
              <p:cNvSpPr txBox="1"/>
              <p:nvPr/>
            </p:nvSpPr>
            <p:spPr>
              <a:xfrm>
                <a:off x="5292720" y="2647800"/>
                <a:ext cx="345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对象 280588"/>
              <p:cNvSpPr txBox="1"/>
              <p:nvPr/>
            </p:nvSpPr>
            <p:spPr>
              <a:xfrm>
                <a:off x="3365640" y="2673360"/>
                <a:ext cx="3427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矩形 20"/>
          <p:cNvSpPr/>
          <p:nvPr/>
        </p:nvSpPr>
        <p:spPr>
          <a:xfrm>
            <a:off x="5043960" y="1949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1"/>
          <p:cNvSpPr/>
          <p:nvPr/>
        </p:nvSpPr>
        <p:spPr>
          <a:xfrm>
            <a:off x="7100280" y="1971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对象 280591"/>
              <p:cNvSpPr txBox="1"/>
              <p:nvPr/>
            </p:nvSpPr>
            <p:spPr>
              <a:xfrm>
                <a:off x="7299360" y="2654280"/>
                <a:ext cx="3506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2"/>
          <p:cNvSpPr/>
          <p:nvPr/>
        </p:nvSpPr>
        <p:spPr>
          <a:xfrm>
            <a:off x="1827000" y="1123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适当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179280" y="1949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4066920" y="1965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179280" y="28130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5874480" y="196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对象 281607"/>
              <p:cNvSpPr txBox="1"/>
              <p:nvPr/>
            </p:nvSpPr>
            <p:spPr>
              <a:xfrm>
                <a:off x="1069920" y="2619360"/>
                <a:ext cx="360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矩形 13"/>
          <p:cNvSpPr/>
          <p:nvPr/>
        </p:nvSpPr>
        <p:spPr>
          <a:xfrm>
            <a:off x="2259000" y="2813040"/>
            <a:ext cx="42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对象 281609"/>
              <p:cNvSpPr txBox="1"/>
              <p:nvPr/>
            </p:nvSpPr>
            <p:spPr>
              <a:xfrm>
                <a:off x="1544760" y="2625840"/>
                <a:ext cx="382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对象 281610"/>
              <p:cNvSpPr txBox="1"/>
              <p:nvPr/>
            </p:nvSpPr>
            <p:spPr>
              <a:xfrm>
                <a:off x="2033640" y="2624040"/>
                <a:ext cx="360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对象 281611"/>
              <p:cNvSpPr txBox="1"/>
              <p:nvPr/>
            </p:nvSpPr>
            <p:spPr>
              <a:xfrm>
                <a:off x="2906640" y="2597040"/>
                <a:ext cx="51300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对象 281612"/>
              <p:cNvSpPr txBox="1"/>
              <p:nvPr/>
            </p:nvSpPr>
            <p:spPr>
              <a:xfrm>
                <a:off x="4562640" y="2631960"/>
                <a:ext cx="5140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图片 11" descr="大卡1.png"/>
          <p:cNvPicPr/>
          <p:nvPr/>
        </p:nvPicPr>
        <p:blipFill>
          <a:blip r:embed="rId1"/>
          <a:stretch/>
        </p:blipFill>
        <p:spPr>
          <a:xfrm>
            <a:off x="7209000" y="3718080"/>
            <a:ext cx="1179360" cy="15350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34"/>
          <p:cNvSpPr/>
          <p:nvPr/>
        </p:nvSpPr>
        <p:spPr>
          <a:xfrm>
            <a:off x="2484360" y="4389480"/>
            <a:ext cx="4826160" cy="768240"/>
          </a:xfrm>
          <a:prstGeom prst="wedgeRoundRectCallout">
            <a:avLst>
              <a:gd name="adj1" fmla="val 53592"/>
              <a:gd name="adj2" fmla="val 9879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两组数分别会越来越接近几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2"/>
          <p:cNvSpPr/>
          <p:nvPr/>
        </p:nvSpPr>
        <p:spPr>
          <a:xfrm>
            <a:off x="1910520" y="102888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花圃，涂色部分种玫瑰。 先估计哪块花圃种玫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所占的百分比最大，再写出相应的百分数，看看估计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33012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6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169848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87520" y="2660760"/>
            <a:ext cx="417240" cy="1633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1450800" y="3141720"/>
            <a:ext cx="1657440" cy="113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2089080" cy="1695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5715000" y="3044880"/>
            <a:ext cx="873000" cy="115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5"/>
          <a:stretch/>
        </p:blipFill>
        <p:spPr>
          <a:xfrm>
            <a:off x="6858000" y="3044880"/>
            <a:ext cx="1674720" cy="1152360"/>
          </a:xfrm>
          <a:prstGeom prst="rect">
            <a:avLst/>
          </a:prstGeom>
          <a:ln w="0">
            <a:noFill/>
          </a:ln>
        </p:spPr>
      </p:pic>
      <p:sp>
        <p:nvSpPr>
          <p:cNvPr id="272" name="矩形 21"/>
          <p:cNvSpPr/>
          <p:nvPr/>
        </p:nvSpPr>
        <p:spPr>
          <a:xfrm>
            <a:off x="577080" y="43178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"/>
          <p:cNvSpPr/>
          <p:nvPr/>
        </p:nvSpPr>
        <p:spPr>
          <a:xfrm>
            <a:off x="1999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4"/>
          <p:cNvSpPr/>
          <p:nvPr/>
        </p:nvSpPr>
        <p:spPr>
          <a:xfrm>
            <a:off x="4231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5"/>
          <p:cNvSpPr/>
          <p:nvPr/>
        </p:nvSpPr>
        <p:spPr>
          <a:xfrm>
            <a:off x="5959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6"/>
          <p:cNvSpPr/>
          <p:nvPr/>
        </p:nvSpPr>
        <p:spPr>
          <a:xfrm>
            <a:off x="747180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7"/>
          <p:cNvSpPr/>
          <p:nvPr/>
        </p:nvSpPr>
        <p:spPr>
          <a:xfrm>
            <a:off x="399204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8"/>
          <p:cNvSpPr/>
          <p:nvPr/>
        </p:nvSpPr>
        <p:spPr>
          <a:xfrm>
            <a:off x="572076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9"/>
          <p:cNvSpPr/>
          <p:nvPr/>
        </p:nvSpPr>
        <p:spPr>
          <a:xfrm>
            <a:off x="745884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1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1820160" y="1123920"/>
            <a:ext cx="61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做发芽试验，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未发芽。求种子的发芽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050920" y="1893960"/>
            <a:ext cx="695520" cy="685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5435640" y="1851120"/>
            <a:ext cx="64764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矩形 5"/>
          <p:cNvSpPr/>
          <p:nvPr/>
        </p:nvSpPr>
        <p:spPr>
          <a:xfrm>
            <a:off x="1194120" y="3044880"/>
            <a:ext cx="26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 = 8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7÷100 = 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"/>
          <p:cNvSpPr/>
          <p:nvPr/>
        </p:nvSpPr>
        <p:spPr>
          <a:xfrm>
            <a:off x="4851000" y="3044880"/>
            <a:ext cx="28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÷100 =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 %= 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"/>
          <p:cNvSpPr/>
          <p:nvPr/>
        </p:nvSpPr>
        <p:spPr>
          <a:xfrm>
            <a:off x="2913480" y="486900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种子的发芽率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7%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2"/>
          <p:cNvSpPr/>
          <p:nvPr/>
        </p:nvSpPr>
        <p:spPr>
          <a:xfrm>
            <a:off x="2408400" y="1123920"/>
            <a:ext cx="44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店有一件上衣，原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这件上衣是打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出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2352960" y="285444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÷150 = 0.8 =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1908000" y="43894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件上衣是打八折出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"/>
          <p:cNvSpPr/>
          <p:nvPr/>
        </p:nvSpPr>
        <p:spPr>
          <a:xfrm>
            <a:off x="1233720" y="965160"/>
            <a:ext cx="64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华家上个月的支出情况如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食费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电、煤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电话费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育支出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购物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他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250920" y="2660760"/>
            <a:ext cx="67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右图中表示出李华家上个月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6156360" y="2084400"/>
            <a:ext cx="2549520" cy="2549520"/>
          </a:xfrm>
          <a:prstGeom prst="rect">
            <a:avLst/>
          </a:prstGeom>
          <a:ln w="0">
            <a:noFill/>
          </a:ln>
        </p:spPr>
      </p:pic>
      <p:sp>
        <p:nvSpPr>
          <p:cNvPr id="292" name="矩形 8"/>
          <p:cNvSpPr/>
          <p:nvPr/>
        </p:nvSpPr>
        <p:spPr>
          <a:xfrm>
            <a:off x="250920" y="395280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向家长了解自己家一个月的收入和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支出情况，计算主要支出各占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百分之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7598160" y="275760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食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6593760" y="256536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5929200" y="32180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电、煤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电话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7389720" y="38656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6588000" y="376884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2"/>
          <p:cNvSpPr/>
          <p:nvPr/>
        </p:nvSpPr>
        <p:spPr>
          <a:xfrm>
            <a:off x="1945800" y="1220760"/>
            <a:ext cx="56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报刊、网络等媒体上收集一些用分数或百分数表示的信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学交流，并说说你对这些信息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5920" y="1355400"/>
            <a:ext cx="4524120" cy="66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分数与除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22480" y="22734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各部分的名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3638880" y="2057400"/>
            <a:ext cx="414000" cy="1132200"/>
            <a:chOff x="3638880" y="2057400"/>
            <a:chExt cx="414000" cy="1132200"/>
          </a:xfrm>
        </p:grpSpPr>
        <p:sp>
          <p:nvSpPr>
            <p:cNvPr id="49" name="Text Box 12"/>
            <p:cNvSpPr/>
            <p:nvPr/>
          </p:nvSpPr>
          <p:spPr>
            <a:xfrm>
              <a:off x="3638880" y="2608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>
              <a:off x="3649680" y="2562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3638880" y="2057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4226040" y="2286000"/>
            <a:ext cx="431640" cy="576360"/>
            <a:chOff x="4226040" y="2286000"/>
            <a:chExt cx="431640" cy="576360"/>
          </a:xfrm>
        </p:grpSpPr>
        <p:sp>
          <p:nvSpPr>
            <p:cNvPr id="53" name="Line 16"/>
            <p:cNvSpPr/>
            <p:nvPr/>
          </p:nvSpPr>
          <p:spPr>
            <a:xfrm>
              <a:off x="4226040" y="2286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7"/>
            <p:cNvSpPr/>
            <p:nvPr/>
          </p:nvSpPr>
          <p:spPr>
            <a:xfrm>
              <a:off x="4226040" y="2575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8"/>
            <p:cNvSpPr/>
            <p:nvPr/>
          </p:nvSpPr>
          <p:spPr>
            <a:xfrm>
              <a:off x="4226040" y="2862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9"/>
          <p:cNvGrpSpPr/>
          <p:nvPr/>
        </p:nvGrpSpPr>
        <p:grpSpPr>
          <a:xfrm>
            <a:off x="4910040" y="2057400"/>
            <a:ext cx="806760" cy="1140480"/>
            <a:chOff x="4910040" y="2057400"/>
            <a:chExt cx="806760" cy="1140480"/>
          </a:xfrm>
        </p:grpSpPr>
        <p:sp>
          <p:nvSpPr>
            <p:cNvPr id="57" name="Text Box 20"/>
            <p:cNvSpPr/>
            <p:nvPr/>
          </p:nvSpPr>
          <p:spPr>
            <a:xfrm>
              <a:off x="4987440" y="2409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21"/>
            <p:cNvGrpSpPr/>
            <p:nvPr/>
          </p:nvGrpSpPr>
          <p:grpSpPr>
            <a:xfrm>
              <a:off x="4910040" y="2057400"/>
              <a:ext cx="567000" cy="1140480"/>
              <a:chOff x="4910040" y="2057400"/>
              <a:chExt cx="567000" cy="1140480"/>
            </a:xfrm>
          </p:grpSpPr>
          <p:sp>
            <p:nvSpPr>
              <p:cNvPr id="59" name="Text Box 22"/>
              <p:cNvSpPr/>
              <p:nvPr/>
            </p:nvSpPr>
            <p:spPr>
              <a:xfrm>
                <a:off x="4910040" y="20574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23"/>
              <p:cNvSpPr/>
              <p:nvPr/>
            </p:nvSpPr>
            <p:spPr>
              <a:xfrm>
                <a:off x="4930560" y="27381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24"/>
          <p:cNvSpPr/>
          <p:nvPr/>
        </p:nvSpPr>
        <p:spPr>
          <a:xfrm>
            <a:off x="5951880" y="2738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平均分的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5486400" y="2057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所取的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2362320" y="3505320"/>
            <a:ext cx="3838320" cy="1836720"/>
            <a:chOff x="2362320" y="3505320"/>
            <a:chExt cx="3838320" cy="1836720"/>
          </a:xfrm>
        </p:grpSpPr>
        <p:pic>
          <p:nvPicPr>
            <p:cNvPr id="64" name="Picture 7" descr=""/>
            <p:cNvPicPr/>
            <p:nvPr/>
          </p:nvPicPr>
          <p:blipFill>
            <a:blip r:embed="rId1"/>
            <a:stretch/>
          </p:blipFill>
          <p:spPr>
            <a:xfrm>
              <a:off x="5334120" y="3733920"/>
              <a:ext cx="8665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圆角矩形标注 37"/>
            <p:cNvSpPr/>
            <p:nvPr/>
          </p:nvSpPr>
          <p:spPr>
            <a:xfrm>
              <a:off x="2362320" y="3505320"/>
              <a:ext cx="2743200" cy="1136520"/>
            </a:xfrm>
            <a:prstGeom prst="wedgeRoundRectCallout">
              <a:avLst>
                <a:gd name="adj1" fmla="val 54402"/>
                <a:gd name="adj2" fmla="val 24425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分数与除法有什么联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15840" y="576360"/>
            <a:ext cx="3245040" cy="525240"/>
            <a:chOff x="15840" y="576360"/>
            <a:chExt cx="3245040" cy="525240"/>
          </a:xfrm>
        </p:grpSpPr>
        <p:grpSp>
          <p:nvGrpSpPr>
            <p:cNvPr id="67" name="圆角矩形 5"/>
            <p:cNvGrpSpPr/>
            <p:nvPr/>
          </p:nvGrpSpPr>
          <p:grpSpPr>
            <a:xfrm>
              <a:off x="160200" y="576360"/>
              <a:ext cx="3100680" cy="525240"/>
              <a:chOff x="160200" y="576360"/>
              <a:chExt cx="3100680" cy="525240"/>
            </a:xfrm>
          </p:grpSpPr>
          <p:pic>
            <p:nvPicPr>
              <p:cNvPr id="68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200" y="57636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205200" y="660600"/>
                <a:ext cx="29512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4"/>
            <p:cNvGrpSpPr/>
            <p:nvPr/>
          </p:nvGrpSpPr>
          <p:grpSpPr>
            <a:xfrm>
              <a:off x="15840" y="702360"/>
              <a:ext cx="428400" cy="188640"/>
              <a:chOff x="15840" y="702360"/>
              <a:chExt cx="428400" cy="188640"/>
            </a:xfrm>
          </p:grpSpPr>
          <p:sp>
            <p:nvSpPr>
              <p:cNvPr id="71" name="椭圆 11"/>
              <p:cNvSpPr/>
              <p:nvPr/>
            </p:nvSpPr>
            <p:spPr>
              <a:xfrm rot="16200000">
                <a:off x="329760" y="77652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椭圆 13"/>
              <p:cNvGrpSpPr/>
              <p:nvPr/>
            </p:nvGrpSpPr>
            <p:grpSpPr>
              <a:xfrm>
                <a:off x="312480" y="813960"/>
                <a:ext cx="115200" cy="69840"/>
                <a:chOff x="312480" y="813960"/>
                <a:chExt cx="115200" cy="69840"/>
              </a:xfrm>
            </p:grpSpPr>
            <p:pic>
              <p:nvPicPr>
                <p:cNvPr id="73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2480" y="81396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346680" y="80640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椭圆 29"/>
              <p:cNvSpPr/>
              <p:nvPr/>
            </p:nvSpPr>
            <p:spPr>
              <a:xfrm rot="16200000">
                <a:off x="329760" y="67068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椭圆 30"/>
              <p:cNvGrpSpPr/>
              <p:nvPr/>
            </p:nvGrpSpPr>
            <p:grpSpPr>
              <a:xfrm>
                <a:off x="312480" y="708840"/>
                <a:ext cx="115200" cy="69840"/>
                <a:chOff x="312480" y="708840"/>
                <a:chExt cx="115200" cy="69840"/>
              </a:xfrm>
            </p:grpSpPr>
            <p:pic>
              <p:nvPicPr>
                <p:cNvPr id="77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480" y="70884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 rot="16200000">
                  <a:off x="346680" y="70056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圆角矩形 31"/>
              <p:cNvGrpSpPr/>
              <p:nvPr/>
            </p:nvGrpSpPr>
            <p:grpSpPr>
              <a:xfrm>
                <a:off x="15840" y="838440"/>
                <a:ext cx="395640" cy="52560"/>
                <a:chOff x="15840" y="838440"/>
                <a:chExt cx="395640" cy="52560"/>
              </a:xfrm>
            </p:grpSpPr>
            <p:pic>
              <p:nvPicPr>
                <p:cNvPr id="80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840" y="83844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6200000">
                  <a:off x="207360" y="701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圆角矩形 32"/>
              <p:cNvGrpSpPr/>
              <p:nvPr/>
            </p:nvGrpSpPr>
            <p:grpSpPr>
              <a:xfrm>
                <a:off x="15840" y="810360"/>
                <a:ext cx="395640" cy="52560"/>
                <a:chOff x="15840" y="810360"/>
                <a:chExt cx="395640" cy="52560"/>
              </a:xfrm>
            </p:grpSpPr>
            <p:pic>
              <p:nvPicPr>
                <p:cNvPr id="83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840" y="81036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6200000">
                  <a:off x="207360" y="675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圆角矩形 33"/>
              <p:cNvGrpSpPr/>
              <p:nvPr/>
            </p:nvGrpSpPr>
            <p:grpSpPr>
              <a:xfrm>
                <a:off x="15840" y="729720"/>
                <a:ext cx="395640" cy="52560"/>
                <a:chOff x="15840" y="729720"/>
                <a:chExt cx="395640" cy="52560"/>
              </a:xfrm>
            </p:grpSpPr>
            <p:pic>
              <p:nvPicPr>
                <p:cNvPr id="86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840" y="72972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207360" y="59292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34"/>
              <p:cNvGrpSpPr/>
              <p:nvPr/>
            </p:nvGrpSpPr>
            <p:grpSpPr>
              <a:xfrm>
                <a:off x="15840" y="705240"/>
                <a:ext cx="395640" cy="48960"/>
                <a:chOff x="15840" y="705240"/>
                <a:chExt cx="395640" cy="48960"/>
              </a:xfrm>
            </p:grpSpPr>
            <p:pic>
              <p:nvPicPr>
                <p:cNvPr id="89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840" y="705240"/>
                  <a:ext cx="3956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207360" y="566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853440" y="176220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分数与除法的关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47320" y="2409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被除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除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4910040" y="2247840"/>
            <a:ext cx="863640" cy="813600"/>
            <a:chOff x="4910040" y="2247840"/>
            <a:chExt cx="863640" cy="813600"/>
          </a:xfrm>
        </p:grpSpPr>
        <p:sp>
          <p:nvSpPr>
            <p:cNvPr id="94" name="Text Box 6"/>
            <p:cNvSpPr/>
            <p:nvPr/>
          </p:nvSpPr>
          <p:spPr>
            <a:xfrm>
              <a:off x="5007960" y="2247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036760" y="260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4910040" y="2679480"/>
              <a:ext cx="863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9"/>
          <p:cNvSpPr/>
          <p:nvPr/>
        </p:nvSpPr>
        <p:spPr>
          <a:xfrm>
            <a:off x="5919120" y="2409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除数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3552840" y="2987640"/>
            <a:ext cx="2382840" cy="801000"/>
            <a:chOff x="3552840" y="2987640"/>
            <a:chExt cx="2382840" cy="801000"/>
          </a:xfrm>
        </p:grpSpPr>
        <p:sp>
          <p:nvSpPr>
            <p:cNvPr id="99" name="Text Box 11"/>
            <p:cNvSpPr/>
            <p:nvPr/>
          </p:nvSpPr>
          <p:spPr>
            <a:xfrm>
              <a:off x="3552840" y="31525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a÷b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2"/>
            <p:cNvGrpSpPr/>
            <p:nvPr/>
          </p:nvGrpSpPr>
          <p:grpSpPr>
            <a:xfrm>
              <a:off x="4442040" y="2987640"/>
              <a:ext cx="374400" cy="801000"/>
              <a:chOff x="4442040" y="2987640"/>
              <a:chExt cx="374400" cy="801000"/>
            </a:xfrm>
          </p:grpSpPr>
          <p:sp>
            <p:nvSpPr>
              <p:cNvPr id="101" name="Text Box 13"/>
              <p:cNvSpPr/>
              <p:nvPr/>
            </p:nvSpPr>
            <p:spPr>
              <a:xfrm>
                <a:off x="4449600" y="298764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  <a:ea typeface="迷你简胖头鱼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4"/>
              <p:cNvSpPr/>
              <p:nvPr/>
            </p:nvSpPr>
            <p:spPr>
              <a:xfrm>
                <a:off x="4442040" y="3328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  <a:ea typeface="迷你简胖头鱼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>
                <a:off x="4481280" y="3439800"/>
                <a:ext cx="28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6"/>
            <p:cNvSpPr/>
            <p:nvPr/>
          </p:nvSpPr>
          <p:spPr>
            <a:xfrm>
              <a:off x="5006520" y="313200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(b≠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7"/>
          <p:cNvGrpSpPr/>
          <p:nvPr/>
        </p:nvGrpSpPr>
        <p:grpSpPr>
          <a:xfrm>
            <a:off x="1397520" y="3917880"/>
            <a:ext cx="354600" cy="825480"/>
            <a:chOff x="1397520" y="3917880"/>
            <a:chExt cx="354600" cy="825480"/>
          </a:xfrm>
        </p:grpSpPr>
        <p:sp>
          <p:nvSpPr>
            <p:cNvPr id="106" name="Text Box 18"/>
            <p:cNvSpPr/>
            <p:nvPr/>
          </p:nvSpPr>
          <p:spPr>
            <a:xfrm>
              <a:off x="1397520" y="3917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1425600" y="4349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1112400" y="4108320"/>
            <a:ext cx="1514160" cy="1485720"/>
            <a:chOff x="1112400" y="4108320"/>
            <a:chExt cx="1514160" cy="1485720"/>
          </a:xfrm>
        </p:grpSpPr>
        <p:sp>
          <p:nvSpPr>
            <p:cNvPr id="109" name="Text Box 21"/>
            <p:cNvSpPr/>
            <p:nvPr/>
          </p:nvSpPr>
          <p:spPr>
            <a:xfrm>
              <a:off x="1112400" y="4108320"/>
              <a:ext cx="13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2"/>
            <p:cNvGrpSpPr/>
            <p:nvPr/>
          </p:nvGrpSpPr>
          <p:grpSpPr>
            <a:xfrm>
              <a:off x="1252800" y="4768560"/>
              <a:ext cx="354600" cy="825480"/>
              <a:chOff x="1252800" y="4768560"/>
              <a:chExt cx="354600" cy="825480"/>
            </a:xfrm>
          </p:grpSpPr>
          <p:sp>
            <p:nvSpPr>
              <p:cNvPr id="111" name="Text Box 23"/>
              <p:cNvSpPr/>
              <p:nvPr/>
            </p:nvSpPr>
            <p:spPr>
              <a:xfrm>
                <a:off x="1252800" y="4768560"/>
                <a:ext cx="35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迷你简胖头鱼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迷你简胖头鱼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4"/>
              <p:cNvSpPr/>
              <p:nvPr/>
            </p:nvSpPr>
            <p:spPr>
              <a:xfrm>
                <a:off x="1280880" y="520020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25"/>
            <p:cNvSpPr/>
            <p:nvPr/>
          </p:nvSpPr>
          <p:spPr>
            <a:xfrm>
              <a:off x="1737360" y="4906800"/>
              <a:ext cx="8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米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7"/>
          <p:cNvSpPr/>
          <p:nvPr/>
        </p:nvSpPr>
        <p:spPr>
          <a:xfrm>
            <a:off x="3414240" y="4900680"/>
            <a:ext cx="38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平均分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每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(      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每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8"/>
          <p:cNvGrpSpPr/>
          <p:nvPr/>
        </p:nvGrpSpPr>
        <p:grpSpPr>
          <a:xfrm>
            <a:off x="6774120" y="4613400"/>
            <a:ext cx="354600" cy="825480"/>
            <a:chOff x="6774120" y="4613400"/>
            <a:chExt cx="354600" cy="825480"/>
          </a:xfrm>
        </p:grpSpPr>
        <p:sp>
          <p:nvSpPr>
            <p:cNvPr id="116" name="Text Box 29"/>
            <p:cNvSpPr/>
            <p:nvPr/>
          </p:nvSpPr>
          <p:spPr>
            <a:xfrm>
              <a:off x="6774120" y="4613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0"/>
            <p:cNvSpPr/>
            <p:nvPr/>
          </p:nvSpPr>
          <p:spPr>
            <a:xfrm>
              <a:off x="6802200" y="504504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1"/>
          <p:cNvGrpSpPr/>
          <p:nvPr/>
        </p:nvGrpSpPr>
        <p:grpSpPr>
          <a:xfrm>
            <a:off x="4259520" y="5189400"/>
            <a:ext cx="354600" cy="825480"/>
            <a:chOff x="4259520" y="5189400"/>
            <a:chExt cx="354600" cy="825480"/>
          </a:xfrm>
        </p:grpSpPr>
        <p:sp>
          <p:nvSpPr>
            <p:cNvPr id="119" name="Text Box 32"/>
            <p:cNvSpPr/>
            <p:nvPr/>
          </p:nvSpPr>
          <p:spPr>
            <a:xfrm>
              <a:off x="4259520" y="5189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4287600" y="562140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6"/>
          <p:cNvSpPr/>
          <p:nvPr/>
        </p:nvSpPr>
        <p:spPr>
          <a:xfrm>
            <a:off x="3414960" y="4162320"/>
            <a:ext cx="42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把单位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平均分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取其中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8"/>
          <p:cNvGrpSpPr/>
          <p:nvPr/>
        </p:nvGrpSpPr>
        <p:grpSpPr>
          <a:xfrm>
            <a:off x="431280" y="585720"/>
            <a:ext cx="7804440" cy="1608120"/>
            <a:chOff x="431280" y="585720"/>
            <a:chExt cx="7804440" cy="1608120"/>
          </a:xfrm>
        </p:grpSpPr>
        <p:pic>
          <p:nvPicPr>
            <p:cNvPr id="123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431280" y="585720"/>
              <a:ext cx="8636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圆角矩形标注 38"/>
            <p:cNvSpPr/>
            <p:nvPr/>
          </p:nvSpPr>
          <p:spPr>
            <a:xfrm flipH="1">
              <a:off x="1599480" y="966600"/>
              <a:ext cx="6636240" cy="506160"/>
            </a:xfrm>
            <a:prstGeom prst="wedgeRoundRectCallout">
              <a:avLst>
                <a:gd name="adj1" fmla="val 54208"/>
                <a:gd name="adj2" fmla="val -37027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数的基本性质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24640" y="1219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分数的基本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034000" y="2133720"/>
            <a:ext cx="49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分子和分母同时乘以或者除以相同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847160" y="3527280"/>
            <a:ext cx="568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分数的分母不变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乘以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分子不变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除以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533520" y="307008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378560" y="35258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1080" y="39625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1371600" y="4648320"/>
            <a:ext cx="4952880" cy="1638360"/>
            <a:chOff x="1371600" y="4648320"/>
            <a:chExt cx="4952880" cy="163836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 flipH="1">
              <a:off x="1371600" y="5362560"/>
              <a:ext cx="12884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标注 26"/>
            <p:cNvSpPr/>
            <p:nvPr/>
          </p:nvSpPr>
          <p:spPr>
            <a:xfrm flipH="1">
              <a:off x="2808000" y="4648320"/>
              <a:ext cx="3516480" cy="990720"/>
            </a:xfrm>
            <a:prstGeom prst="wedgeRoundRectCallout">
              <a:avLst>
                <a:gd name="adj1" fmla="val 55777"/>
                <a:gd name="adj2" fmla="val 40717"/>
                <a:gd name="adj3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efff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你能用它来说明小数的性质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24"/>
          <p:cNvSpPr/>
          <p:nvPr/>
        </p:nvSpPr>
        <p:spPr>
          <a:xfrm>
            <a:off x="2438280" y="2590920"/>
            <a:ext cx="1676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5"/>
          <p:cNvSpPr/>
          <p:nvPr/>
        </p:nvSpPr>
        <p:spPr>
          <a:xfrm>
            <a:off x="4267080" y="2590920"/>
            <a:ext cx="13716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8"/>
          <p:cNvSpPr/>
          <p:nvPr/>
        </p:nvSpPr>
        <p:spPr>
          <a:xfrm>
            <a:off x="6400800" y="2590920"/>
            <a:ext cx="685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30"/>
          <p:cNvSpPr/>
          <p:nvPr/>
        </p:nvSpPr>
        <p:spPr>
          <a:xfrm>
            <a:off x="7162920" y="2590920"/>
            <a:ext cx="685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074600"/>
            <a:ext cx="8153280" cy="42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小数与分数的关系：</a:t>
            </a:r>
            <a:br>
              <a:rPr sz="6000"/>
            </a:b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小数实际上是分母为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0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的分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762120" y="3809880"/>
            <a:ext cx="7543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的性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末尾添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去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标题 1"/>
          <p:cNvSpPr/>
          <p:nvPr/>
        </p:nvSpPr>
        <p:spPr>
          <a:xfrm>
            <a:off x="3400560" y="785880"/>
            <a:ext cx="1676160" cy="533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表示一个数是另一个数的百分之几的数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迷你简胖头鱼"/>
              </a:rPr>
              <a:t>百分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百分数又叫百分率或百分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2484360" y="2813040"/>
            <a:ext cx="4248000" cy="2520720"/>
            <a:chOff x="2484360" y="2813040"/>
            <a:chExt cx="4248000" cy="2520720"/>
          </a:xfrm>
        </p:grpSpPr>
        <p:sp>
          <p:nvSpPr>
            <p:cNvPr id="143" name="AutoShape 7"/>
            <p:cNvSpPr/>
            <p:nvPr/>
          </p:nvSpPr>
          <p:spPr>
            <a:xfrm>
              <a:off x="2484360" y="2813040"/>
              <a:ext cx="4248000" cy="2520720"/>
            </a:xfrm>
            <a:prstGeom prst="irregularSeal1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400920" y="3462840"/>
              <a:ext cx="2398320" cy="9471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百分数后面不能带单位名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228600" y="4800600"/>
            <a:ext cx="8153280" cy="1314360"/>
            <a:chOff x="228600" y="4800600"/>
            <a:chExt cx="8153280" cy="131436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 flipH="1">
              <a:off x="228600" y="4800600"/>
              <a:ext cx="108540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圆角矩形标注 12"/>
            <p:cNvSpPr/>
            <p:nvPr/>
          </p:nvSpPr>
          <p:spPr>
            <a:xfrm flipH="1">
              <a:off x="1485720" y="4800600"/>
              <a:ext cx="6896160" cy="685800"/>
            </a:xfrm>
            <a:prstGeom prst="wedgeRoundRectCallout">
              <a:avLst>
                <a:gd name="adj1" fmla="val 53398"/>
                <a:gd name="adj2" fmla="val 44967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数、分数、百分数怎样互相改写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63560" y="5805360"/>
            <a:ext cx="1297080" cy="59544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3560" y="990720"/>
            <a:ext cx="1217520" cy="59832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6640" y="954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276640" y="1125360"/>
            <a:ext cx="4752720" cy="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7245360" y="914400"/>
            <a:ext cx="1593720" cy="704160"/>
            <a:chOff x="7245360" y="914400"/>
            <a:chExt cx="1593720" cy="704160"/>
          </a:xfrm>
        </p:grpSpPr>
        <p:sp>
          <p:nvSpPr>
            <p:cNvPr id="153" name="Rectangle 7"/>
            <p:cNvSpPr/>
            <p:nvPr/>
          </p:nvSpPr>
          <p:spPr>
            <a:xfrm>
              <a:off x="7245360" y="914400"/>
              <a:ext cx="1528920" cy="684360"/>
            </a:xfrm>
            <a:prstGeom prst="rect">
              <a:avLst/>
            </a:prstGeom>
            <a:solidFill>
              <a:srgbClr val="3bcb3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7245360" y="975960"/>
              <a:ext cx="159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百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2492280" y="47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小数点向右移动两位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添上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 flipH="1">
            <a:off x="2276640" y="1411200"/>
            <a:ext cx="475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347920" y="1484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去掉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%,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小数点向左移动两位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3560" y="580536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 flipV="1">
            <a:off x="2492280" y="1844640"/>
            <a:ext cx="5761080" cy="4176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 rot="19483200">
            <a:off x="1916280" y="3357360"/>
            <a:ext cx="533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通常先化成小数（除不尽时，通常保留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位小数）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再化成百分数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2636640" y="2133720"/>
            <a:ext cx="5832360" cy="417492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 rot="19433400">
            <a:off x="2943000" y="424440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改写成分母是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的分数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能约分的要约分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1339920" y="1844640"/>
            <a:ext cx="0" cy="381636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1700280" y="1773000"/>
            <a:ext cx="0" cy="3816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771560" y="2133720"/>
            <a:ext cx="511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用分子除以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152280" y="227340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先化成分母是</a:t>
            </a: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等  的分数，再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3562560" y="1123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用分数、小数和百分数表示图中的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116000" y="1797120"/>
            <a:ext cx="1436760" cy="1920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203640" y="1797120"/>
            <a:ext cx="1433520" cy="192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5435640" y="1754280"/>
            <a:ext cx="1476360" cy="1968480"/>
          </a:xfrm>
          <a:prstGeom prst="rect">
            <a:avLst/>
          </a:prstGeom>
          <a:ln w="0">
            <a:noFill/>
          </a:ln>
        </p:spPr>
      </p:pic>
      <p:sp>
        <p:nvSpPr>
          <p:cNvPr id="171" name="矩形 18"/>
          <p:cNvSpPr/>
          <p:nvPr/>
        </p:nvSpPr>
        <p:spPr>
          <a:xfrm>
            <a:off x="1193400" y="40640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1193400" y="46004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0"/>
          <p:cNvSpPr/>
          <p:nvPr/>
        </p:nvSpPr>
        <p:spPr>
          <a:xfrm>
            <a:off x="968400" y="511956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对象 277513"/>
              <p:cNvSpPr txBox="1"/>
              <p:nvPr/>
            </p:nvSpPr>
            <p:spPr>
              <a:xfrm>
                <a:off x="1909800" y="3814920"/>
                <a:ext cx="5032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矩形 24"/>
          <p:cNvSpPr/>
          <p:nvPr/>
        </p:nvSpPr>
        <p:spPr>
          <a:xfrm>
            <a:off x="3492720" y="4041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492720" y="45766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6"/>
          <p:cNvSpPr/>
          <p:nvPr/>
        </p:nvSpPr>
        <p:spPr>
          <a:xfrm>
            <a:off x="3267360" y="5097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7"/>
          <p:cNvSpPr/>
          <p:nvPr/>
        </p:nvSpPr>
        <p:spPr>
          <a:xfrm>
            <a:off x="5764320" y="4070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8"/>
          <p:cNvSpPr/>
          <p:nvPr/>
        </p:nvSpPr>
        <p:spPr>
          <a:xfrm>
            <a:off x="5764320" y="46069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9"/>
          <p:cNvSpPr/>
          <p:nvPr/>
        </p:nvSpPr>
        <p:spPr>
          <a:xfrm>
            <a:off x="5539680" y="51274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0"/>
          <p:cNvSpPr/>
          <p:nvPr/>
        </p:nvSpPr>
        <p:spPr>
          <a:xfrm>
            <a:off x="1872720" y="4624560"/>
            <a:ext cx="56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1"/>
          <p:cNvSpPr/>
          <p:nvPr/>
        </p:nvSpPr>
        <p:spPr>
          <a:xfrm>
            <a:off x="1813320" y="51595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对象 277522"/>
              <p:cNvSpPr txBox="1"/>
              <p:nvPr/>
            </p:nvSpPr>
            <p:spPr>
              <a:xfrm>
                <a:off x="4084560" y="3782880"/>
                <a:ext cx="7686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矩形 33"/>
          <p:cNvSpPr/>
          <p:nvPr/>
        </p:nvSpPr>
        <p:spPr>
          <a:xfrm>
            <a:off x="4070520" y="463536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4"/>
          <p:cNvSpPr/>
          <p:nvPr/>
        </p:nvSpPr>
        <p:spPr>
          <a:xfrm>
            <a:off x="4121640" y="517860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对象 277525"/>
              <p:cNvSpPr txBox="1"/>
              <p:nvPr/>
            </p:nvSpPr>
            <p:spPr>
              <a:xfrm>
                <a:off x="6316560" y="3884760"/>
                <a:ext cx="8492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矩形 36"/>
          <p:cNvSpPr/>
          <p:nvPr/>
        </p:nvSpPr>
        <p:spPr>
          <a:xfrm>
            <a:off x="6256080" y="4665600"/>
            <a:ext cx="8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7"/>
          <p:cNvSpPr/>
          <p:nvPr/>
        </p:nvSpPr>
        <p:spPr>
          <a:xfrm>
            <a:off x="6292080" y="5165640"/>
            <a:ext cx="9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3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5840" y="576360"/>
            <a:ext cx="3245040" cy="525240"/>
            <a:chOff x="15840" y="576360"/>
            <a:chExt cx="3245040" cy="525240"/>
          </a:xfrm>
        </p:grpSpPr>
        <p:grpSp>
          <p:nvGrpSpPr>
            <p:cNvPr id="190" name="圆角矩形 5"/>
            <p:cNvGrpSpPr/>
            <p:nvPr/>
          </p:nvGrpSpPr>
          <p:grpSpPr>
            <a:xfrm>
              <a:off x="160200" y="576360"/>
              <a:ext cx="3100680" cy="525240"/>
              <a:chOff x="160200" y="576360"/>
              <a:chExt cx="3100680" cy="525240"/>
            </a:xfrm>
          </p:grpSpPr>
          <p:pic>
            <p:nvPicPr>
              <p:cNvPr id="191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200" y="57636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05200" y="660600"/>
                <a:ext cx="29512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4"/>
            <p:cNvGrpSpPr/>
            <p:nvPr/>
          </p:nvGrpSpPr>
          <p:grpSpPr>
            <a:xfrm>
              <a:off x="15840" y="702360"/>
              <a:ext cx="428400" cy="188640"/>
              <a:chOff x="15840" y="702360"/>
              <a:chExt cx="428400" cy="188640"/>
            </a:xfrm>
          </p:grpSpPr>
          <p:sp>
            <p:nvSpPr>
              <p:cNvPr id="194" name="椭圆 11"/>
              <p:cNvSpPr/>
              <p:nvPr/>
            </p:nvSpPr>
            <p:spPr>
              <a:xfrm rot="16200000">
                <a:off x="329760" y="77652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椭圆 13"/>
              <p:cNvGrpSpPr/>
              <p:nvPr/>
            </p:nvGrpSpPr>
            <p:grpSpPr>
              <a:xfrm>
                <a:off x="312480" y="813960"/>
                <a:ext cx="115200" cy="69840"/>
                <a:chOff x="312480" y="813960"/>
                <a:chExt cx="115200" cy="69840"/>
              </a:xfrm>
            </p:grpSpPr>
            <p:pic>
              <p:nvPicPr>
                <p:cNvPr id="196" name="椭圆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2480" y="81396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/>
                <p:nvPr/>
              </p:nvSpPr>
              <p:spPr>
                <a:xfrm rot="16200000">
                  <a:off x="346680" y="80640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椭圆 29"/>
              <p:cNvSpPr/>
              <p:nvPr/>
            </p:nvSpPr>
            <p:spPr>
              <a:xfrm rot="16200000">
                <a:off x="329760" y="67068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椭圆 30"/>
              <p:cNvGrpSpPr/>
              <p:nvPr/>
            </p:nvGrpSpPr>
            <p:grpSpPr>
              <a:xfrm>
                <a:off x="312480" y="708840"/>
                <a:ext cx="115200" cy="69840"/>
                <a:chOff x="312480" y="708840"/>
                <a:chExt cx="115200" cy="69840"/>
              </a:xfrm>
            </p:grpSpPr>
            <p:pic>
              <p:nvPicPr>
                <p:cNvPr id="200" name="椭圆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2480" y="70884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 rot="16200000">
                  <a:off x="346680" y="70056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圆角矩形 31"/>
              <p:cNvGrpSpPr/>
              <p:nvPr/>
            </p:nvGrpSpPr>
            <p:grpSpPr>
              <a:xfrm>
                <a:off x="15840" y="838440"/>
                <a:ext cx="395640" cy="52560"/>
                <a:chOff x="15840" y="838440"/>
                <a:chExt cx="395640" cy="52560"/>
              </a:xfrm>
            </p:grpSpPr>
            <p:pic>
              <p:nvPicPr>
                <p:cNvPr id="203" name="圆角矩形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840" y="83844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207360" y="701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32"/>
              <p:cNvGrpSpPr/>
              <p:nvPr/>
            </p:nvGrpSpPr>
            <p:grpSpPr>
              <a:xfrm>
                <a:off x="15840" y="810360"/>
                <a:ext cx="395640" cy="52560"/>
                <a:chOff x="15840" y="810360"/>
                <a:chExt cx="395640" cy="52560"/>
              </a:xfrm>
            </p:grpSpPr>
            <p:pic>
              <p:nvPicPr>
                <p:cNvPr id="206" name="圆角矩形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840" y="81036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207360" y="675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圆角矩形 33"/>
              <p:cNvGrpSpPr/>
              <p:nvPr/>
            </p:nvGrpSpPr>
            <p:grpSpPr>
              <a:xfrm>
                <a:off x="15840" y="729720"/>
                <a:ext cx="395640" cy="52560"/>
                <a:chOff x="15840" y="729720"/>
                <a:chExt cx="395640" cy="52560"/>
              </a:xfrm>
            </p:grpSpPr>
            <p:pic>
              <p:nvPicPr>
                <p:cNvPr id="209" name="圆角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840" y="72972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 rot="16200000">
                  <a:off x="207360" y="59292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圆角矩形 34"/>
              <p:cNvGrpSpPr/>
              <p:nvPr/>
            </p:nvGrpSpPr>
            <p:grpSpPr>
              <a:xfrm>
                <a:off x="15840" y="705240"/>
                <a:ext cx="395640" cy="48960"/>
                <a:chOff x="15840" y="705240"/>
                <a:chExt cx="395640" cy="48960"/>
              </a:xfrm>
            </p:grpSpPr>
            <p:pic>
              <p:nvPicPr>
                <p:cNvPr id="212" name="圆角矩形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5840" y="705240"/>
                  <a:ext cx="3956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 rot="16200000">
                  <a:off x="207360" y="566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2"/>
          <p:cNvSpPr/>
          <p:nvPr/>
        </p:nvSpPr>
        <p:spPr>
          <a:xfrm>
            <a:off x="362520" y="112392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对象 278531"/>
              <p:cNvSpPr txBox="1"/>
              <p:nvPr/>
            </p:nvSpPr>
            <p:spPr>
              <a:xfrm>
                <a:off x="826920" y="1797120"/>
                <a:ext cx="63374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（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对象 278532"/>
              <p:cNvSpPr txBox="1"/>
              <p:nvPr/>
            </p:nvSpPr>
            <p:spPr>
              <a:xfrm>
                <a:off x="1476360" y="3814920"/>
                <a:ext cx="873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矩形 39"/>
          <p:cNvSpPr/>
          <p:nvPr/>
        </p:nvSpPr>
        <p:spPr>
          <a:xfrm>
            <a:off x="268560" y="202896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0"/>
          <p:cNvSpPr/>
          <p:nvPr/>
        </p:nvSpPr>
        <p:spPr>
          <a:xfrm>
            <a:off x="245520" y="323676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1"/>
          <p:cNvSpPr/>
          <p:nvPr/>
        </p:nvSpPr>
        <p:spPr>
          <a:xfrm>
            <a:off x="755640" y="3095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一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绳子剪成同样长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段长是全长的  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段长      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对象 278536"/>
              <p:cNvSpPr txBox="1"/>
              <p:nvPr/>
            </p:nvSpPr>
            <p:spPr>
              <a:xfrm>
                <a:off x="3625920" y="3814920"/>
                <a:ext cx="874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矩形 42"/>
          <p:cNvSpPr/>
          <p:nvPr/>
        </p:nvSpPr>
        <p:spPr>
          <a:xfrm>
            <a:off x="2114640" y="24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4"/>
          <p:cNvSpPr/>
          <p:nvPr/>
        </p:nvSpPr>
        <p:spPr>
          <a:xfrm>
            <a:off x="353016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5"/>
          <p:cNvSpPr/>
          <p:nvPr/>
        </p:nvSpPr>
        <p:spPr>
          <a:xfrm>
            <a:off x="6087960" y="2084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6"/>
          <p:cNvSpPr/>
          <p:nvPr/>
        </p:nvSpPr>
        <p:spPr>
          <a:xfrm>
            <a:off x="1735560" y="3825720"/>
            <a:ext cx="3499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7"/>
          <p:cNvSpPr/>
          <p:nvPr/>
        </p:nvSpPr>
        <p:spPr>
          <a:xfrm>
            <a:off x="3885840" y="3835440"/>
            <a:ext cx="3499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78542" descr=""/>
          <p:cNvPicPr/>
          <p:nvPr/>
        </p:nvPicPr>
        <p:blipFill>
          <a:blip r:embed="rId1"/>
          <a:stretch/>
        </p:blipFill>
        <p:spPr>
          <a:xfrm>
            <a:off x="4716360" y="1797120"/>
            <a:ext cx="64944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图片 278543" descr=""/>
          <p:cNvPicPr/>
          <p:nvPr/>
        </p:nvPicPr>
        <p:blipFill>
          <a:blip r:embed="rId2"/>
          <a:stretch/>
        </p:blipFill>
        <p:spPr>
          <a:xfrm>
            <a:off x="4716360" y="2468520"/>
            <a:ext cx="64944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